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D201-99AC-4CAA-8B7F-921DA48AA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FDB0-764B-4BEA-8DA4-1CBB4FD21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3C5AC6-948F-4BD3-97B4-D9D167534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9683E8-46D7-4B42-B4F2-74721DD0F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117BBA-C59E-4997-A797-7CBD11D2B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95F859-83E2-4297-8029-ABAFEBE55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CC063D-335F-4B2F-AAC9-5F4B16EE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60EB01-5096-4B31-BCD4-7E3B7EFE3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6D2C3B-0F2A-4BBA-8A87-3769885C3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BCAD2B-2A3E-4A8F-919C-EB83793B5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D81115-20BC-4BE3-A467-78C89FC3D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D686AB-E743-48B2-89E5-5B06B680E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FA64-530F-4E70-B186-C0776E5DA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50957B-3466-4B3F-BFC2-7830215DF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906116-F837-4EDA-8047-D0BBA9F5F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679529-2A2B-43AB-BA4F-447CB213D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CA57F5-7EB1-47ED-817C-4A37488F6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155978-A904-4D0E-90B0-4FD64EB7E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B0ACA9-C7CD-4192-A0EF-459D07C6B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1E28FC-5243-47AC-B1D7-F87942FD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3A9959-1A27-4DE5-BB08-CF398703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E30746-D553-45FE-941A-24CDC31D6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2D609C-5E9F-4E9B-84DE-DFE4A299A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0715-0C9E-4B5A-B777-52582C28E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D50CF3-E886-4534-AE5E-58BB6ACF5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791320-FE3C-4304-810D-9B576801A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5F65F8-4BBE-4622-A798-1EADB61D9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268D13-5E81-40F7-9E69-2F6F28344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AFC93C-1459-4612-AD7A-7ADBBB37B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4ED969-0BAB-4B14-B88C-7AF84B03C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475FB8-B368-42E9-AE11-51C46AB78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C4457E-75CB-4701-A0F6-EA9B312B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E8BC31-A6E8-4733-A55D-B1BE3AD98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A0947C-9969-406C-9AD0-2A9350CBE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1CD2D-FCAA-4B94-A8E8-1A77C3374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D31438-AF4B-4171-98AF-44729BEE9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FB1557-0012-484B-A591-A52E11783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6B4599-FF9F-40C4-A82F-E149D473D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EA517F-D167-4B75-AAC6-0EDD26A98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37AE39-5D09-43BA-845A-3CA469E33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87C086-583E-4E99-A7A3-C565E27DB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0A93E6-3B5B-49A0-8B57-24D8E8FE5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799942-2152-4EF7-9980-B65DE4150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E7BE26-4853-42EF-A381-E0B6DEB3B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07194F-06B2-499D-9DCC-B3537B2BE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7FB47-4448-4E72-B94D-787AF0E24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79C89E-916F-4579-8B85-D07D6C4FA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5E7354-F659-4E20-BDC4-D8E00E8D7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C0F51E-F58E-4D5B-98F8-7D6010ACF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DE3419-AB81-4DD0-B54A-7C909C741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D88B5C-0ED1-4B3D-9D68-83EA16A72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49464C-5E02-483F-B962-9D4FA89CC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A4345E-2E77-499F-8D8C-AA31D6A47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CBD32A-157F-4EB2-9BAF-DD84A8BC7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3235CB-7ABC-4840-B1AF-9EF4BC133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164DED-9263-4E04-8E6F-0CCC16FED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D74DC-8C1D-4E1E-AF70-550BDF507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F1219B-1A39-4ADD-910B-9CDCD5FB8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07AA4B-E0D7-4159-AC17-EC670300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457E27-3C97-46FF-A717-87BB0DAF5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682931-B6FA-4D3C-BE29-4E58FE04C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81797B-6537-457D-B13C-357E61030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2D5B7D-ECAB-41C7-AE5B-A83FD5214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1E0948-B126-43B1-B343-6DA6F7977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3310CF-C62C-4EEF-8701-C0FB7ECB7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4FAE02-BAA4-46D5-871C-5A0F5C0E9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1DC9EE-45A2-46AC-9395-7FB12E9BE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550BD-6136-4685-8CAE-624E6BB56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8509BF-EDB8-4635-A1BD-037C0EFA4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54F275-306D-49D0-ACF4-F53F08409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B747F3-EA67-4EA9-830B-30CE5F68C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54E710-546E-41EA-9E09-16DAEDE6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8E26D7-EB80-4308-89C9-41B38B735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683475-36F0-4F8D-8C19-249612EE8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8C0ABF-8775-42EF-99CF-38BF86B27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5181C1-4130-44C6-B86D-E067420E1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5ACBA4-994B-4AD1-BE77-A34191DA2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226F34-8C7C-44D4-A4D4-A4D2DEE58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35D49-926E-431D-8FBE-277CCE334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0F1D9B-7F80-403B-AEC5-1E94EDAD2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4F035B-6882-41BC-9DE2-D556E7009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4EF9E3-9105-4F02-A217-9B6093D4C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742393-FC71-46CC-8C52-56611CE2C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26948B-2BB3-471A-A1B2-10980308C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412E5A-CF14-4AF3-8C43-1E4E05537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C0F4E1-A4C1-4910-B5AC-565F591A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061AEC-35EC-4669-8B9D-A07765EB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760950-852B-4CD6-A440-FF61DAB84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7E7794-EF04-4BD1-908C-1DBA8192F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A17CF-1227-4E4B-BA18-5F44C95E9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BC6C82-B197-4F01-B13E-2991518A3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CB165F-7EA5-4671-8D17-5C641D57A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7D0DEF-4642-4673-B2CB-FCF6F0BC7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C41579-08C1-42D3-93C4-CCC0D021B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526188-AFA3-4E63-B4BC-F3695BC8F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F2B560-3ACE-4D72-99D5-018BCEBCB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369FB2-8EAB-416A-BD08-AC11D67D6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A1003F-6469-48B3-8814-41DA7EBA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5EB1D9-5521-4DFF-B383-454D6DE9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3206FE-28E0-472F-839C-D32CEFF37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86837-2B43-4CE4-AD3C-1E27D896B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15CADC-A3C2-47DD-B0A3-080C781F8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78DADB-466F-4944-8E00-1C492DFBC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67149D-0EA0-4891-9807-52DBF34AB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61CA0E-4592-4C4C-911C-5B9FD8B25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B27510-D054-4A09-8F40-BFB63E516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0F502F-A1AC-4C14-85E9-EB1D3A6DB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E10367-A774-44BA-AAB0-AAEEDACCD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20F51A-B144-471E-BE2F-4F86D43C6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2909A5-F7FC-4AA7-B4FB-2430C7D1A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48971A-8A94-4068-B600-65CDB13F1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39FA-1354-418D-8C79-E3DB9DC89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2561A-5239-4287-BE86-8FECF4740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88C420-A852-430D-A58D-B0C56579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ACEF4B-CE5E-40F6-B2A6-C1E6AA604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CE12C7-540D-4915-A6B0-60A0A097E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A0D9B1-99FD-4560-AA6E-5074F7D4A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5ED00D-AB5F-4BD1-BB2D-3FFDD588B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ED794F-36ED-4AA1-89C3-9D7BD3EAB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4D7D68-F8E4-45F0-A7E1-5D577447B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C4DF81-F289-45D9-B65D-7A9A5DDF3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CE5AD5-DC57-46CC-9DEF-2FD3D7C0E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A30FFC-CE51-49A6-B29C-3956877E0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4E6E6-0076-4952-8930-146E97AC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636B33-F397-4E44-9C1A-5CBE2B764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39854B-483B-4707-9782-89A062B0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701D49-34EB-405C-8B7D-293166A2C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7B00A3-2CAD-4B10-A873-4874FD91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7D79CB-40C6-46A3-8A77-7120F8601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7AFEFD-D5CF-469A-AE28-0EA056420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12B0D5-3584-45AD-A31B-FA7832388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9C977C-7F4F-433F-B9C9-7B562B213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EFD768-5F36-43A7-AAB5-7B1FAD52A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FBAAC2-0484-458D-B490-7D5E327FE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66B8E-D359-4269-984B-FFA568172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6C2F2B-EBC4-4B88-BF7E-4226026C0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5BB93D-CD9C-4620-B7FB-1EAD0158B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D1B4D1-25F2-445C-823F-3D607827F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C02037-9EE1-4F5C-BFD6-850693C8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599CDE-694E-469F-A6AD-3B53CB0E5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950437-F92C-41E1-A440-42CB89BA2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FC7C76-AC09-4F0C-8472-232979135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955711-3D63-4F95-8549-E52CF7292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8D5F25-E9DA-4FEE-BB43-3615FF397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EEF112-DE63-4195-862C-BB90D0CF2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1E114-16C4-4246-8DCF-D60B44DDB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FECF86-2D86-4293-85F0-94CC68DDC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9AC10F-A0B1-47DF-A57D-1E1B58400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3887E2-18E0-4AAD-9391-1F38F2E99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322493-9643-404D-BC7F-417FE3323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B8AF8E-0642-4A50-A040-CAEC2288A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5D45D8-C550-41C1-B255-2C04713E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AF800A-DE1A-4BFA-9FA3-313A9A1A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EBF3B8-1533-40B8-97E5-FD264CDF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77F43D-8BA1-44B7-8B68-8294D39E1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620627-026F-4BE3-9232-16158BD2A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52796-F38B-4142-BB04-294B5784B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188B42-D406-45F2-ABAB-DF41FD8D2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F18BFC-1DB8-4DFC-87AC-610095FF9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A860FF-CCD1-448D-B7E7-84BB9E3FC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5682F0-2B54-4EB3-B2D1-0441EAAA4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1B1FEC-57AD-4C61-977F-B2BC94B06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2E681F-9ED6-4DC9-9463-4C3DCFDB6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5C1615-FAA8-47F7-A878-9B6294E7B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6E57F9-7E22-4EC2-B173-2C715149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BC2D27-9A7E-4AD6-BC02-2ADAE5AA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4745D7-35BD-49C8-A256-ACD21D1B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98A12-B419-4086-9157-6D209A604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2199CB-7BF8-42F6-8DA0-BB95ABCA5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590CD4-D7D5-4A23-B4B9-9E36C10AB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9A48FA-9110-4EBB-A5B4-1A222A03F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110B5-6340-40CA-8083-02F489B2A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692E0-0D8F-45EB-AEFC-3C2EDC28B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BD4F6-77E0-47CA-A98F-90773223F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836EB-8ECB-46BC-8384-96A717ECB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F007-83CA-4C2D-8257-9D87DAF65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9E98F-174A-4100-95D8-3EEF361B1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E7125-A637-4806-92B6-543977D6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6339D-9784-4EC6-8F68-ED6270A66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6496F-730A-4FAE-A366-42D722B1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72509-846B-4351-B9CF-E023FF42A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702A8-295F-4B08-B357-02ECEDE12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3DE3E-2A55-4CB3-96BE-DF237052C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E3E4A-1980-42E9-9F79-1AE32D8CE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AB6C6-B195-4E6F-BC97-9F0712F47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7CFB2-A114-490F-958A-78E19BB7E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8859-1910-41B3-A6BA-2206F1ACD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953FB-7573-4EF5-BFF0-426A9E492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FFAA7-E17C-45AA-9A4E-98AB89636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EE5D4-55B7-400B-9E1A-E63D20840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7288F-6A5D-4FB0-B7E1-AF4AFB475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CDB53-2022-436F-9A98-F42518A0E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AA4E1-F86F-470C-8552-19B2778B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EF705-0BFF-4B86-8695-C632F77D3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4A5B2-69EB-4946-BABD-7A324146B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973AA-E8A0-4DA1-A698-47C9C01CF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1EBC7C-99DC-4015-99B9-6290083C4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E224-AB5E-466F-8038-9309660E3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3B677E-7A18-4B43-8613-359C68356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3A50B-563B-4A64-8264-16D7F8F59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CE469F-F9CF-4222-BFD1-F20B25F7C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F163B-5334-4E4D-BF27-ADF730EEA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3F8E1-2DEE-4B47-8AC2-32FA26BA1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411B2-1ADB-4443-A48C-146271173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498A8-82D9-4D0E-AF1E-C70A3B84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997677-7F82-4D51-A426-546935115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DE018-35A2-48E6-9028-2BA06B731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726F88-BFF6-4E9D-96F7-EEBE19472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D4BC-F648-4B51-A6F0-B4772C227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B097C0-E630-4E07-9728-7977F2FEC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E12719-42D9-4D0A-BA15-F997F3974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7F353-969E-4E45-878F-648C8BD2B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FEBC1B-D4BD-4BC5-AEFB-65DBEA86B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E24E87-3584-4B44-B3F4-F0802743D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B15616-A4CC-4EDC-9ADA-53613FD6A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89ED82-05B9-47AE-A75B-93BE98CAE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6EC94B-0BFE-48D8-8CE5-DF30FD308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FF81EC-8EA4-4004-B3CD-1C9137F1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0DC318-F397-4262-BE08-29F8FD66A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D3A5-4752-4149-9055-01820B8F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086B13-CED0-4ED3-B9D9-9C62010DA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114EAD-6438-4C50-9A00-2372797E3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7EC76F-B290-4218-8148-A88BE6752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5AF2D4-A945-43F0-9AB4-972FA7E62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8D3F82-76A9-4589-8F49-96DA72AA0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93A217-C2C6-467A-B0F0-738105E34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A34B8A-A4DB-493A-88F4-AAEF34F5E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772BA1-D327-462E-ACC6-E0A2F64F8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047627-F21F-4B6B-B08A-5DA36927D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401DE4-39CB-4E34-AE37-423CFFF59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AC49-A68F-4D12-A431-0FA7581C9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C79B21-2A86-4B46-B8E2-F630E6BC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F5F13F-9FD3-4E40-BC65-20D4E3EA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1C6352-C34E-4D80-8439-68385E673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5E7457-E4F1-4967-B102-7D30E9966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416130-1230-4B04-8DC0-CF50C85A2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DF3D13-F931-42DB-BBBD-2410454E3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CEBB25-B8A9-4AB2-B682-9FCB953A4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D1AFE8-0E18-45C1-8853-2BF390EC9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1194FE-A93C-46B7-B37C-22054DDAF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61021D-8988-4303-9FAD-1FB7B669C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1049-CEF7-4E79-968F-53648C598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4FC3A4-253A-4608-A769-1561C8CDF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91B6C4-4927-402D-BD64-5B8049518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E516E9-A592-4C52-AC9E-111B08499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0E8587-7D44-4ECA-8CC3-C536A1552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F82E87-C4A9-4726-B022-FA8BC717D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0030FA-389B-4326-8DA7-56E9663DF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C0B766-4B46-4B64-ADC8-A87A5B6B6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8010AC-3491-4332-84B0-54285E262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1654CB-EC96-4CD5-8B71-728763568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A6A757-FEC2-4669-A34C-D57697DBF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F0874-7199-47BF-9BAF-1C2D9FDE97D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25455-D645-428C-A27D-6F89086D95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F9E32-EB8B-4052-8EC1-97C7C9D0F65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2BCFF-A677-4656-8802-1A5E50C863A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E1E66-2085-45C1-B7C4-193FEE496D9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56E64-76AA-42FF-A528-09DA24DFFA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9A8C1-7B9D-4D3A-A606-2A0E86DC697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54A07-C892-4F4A-9278-C056A42F444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7CF54-EF2E-4216-BBCB-BC13289DB1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22BE5-EA05-4DD2-AE4D-A5CC7A692F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BA38A-B1D2-4EB6-AED8-E81F4EDE0BA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A28F0-C40D-4987-9235-2238E0E0322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9B552-6B33-4C63-9C67-C3CC48B473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FE5CE-C614-46EC-8A48-7ED24903CD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F3AEC-D025-417A-8095-AB884C7E17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EAE50-E9A0-45A3-A642-9971F75C996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DAAD2-EDFE-4045-85F5-08525D1711D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0D88A-F60D-461F-8DD1-2CC57AA1107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C4760-BCD6-4A09-8F5D-798347C78A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41FC5-96F8-413B-B2ED-43280820B77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45037-45AC-493A-9B7A-5F88B0E6C7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CC696-84DA-4EDE-8B92-2C9A8B248B0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52313-3627-4FDB-8119-1A0FACA80FB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F79EF-1AF5-4AE6-8CA8-7BDA9A51908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FFC5B-3249-4C8D-853C-C86A22CA871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729EC-7DC8-46A8-9EBF-705ED634683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5258A-AA27-45A6-875A-84147A4058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32655-55E2-4867-B8B5-8CF202DDD46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A293B-94D1-4609-AD8A-1F382DF1EB2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E9CB9-1CBE-4ECD-BA32-5D7DBFDC135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2CF3A-D2E7-4ADF-8D94-5CBD1B56DE8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CD143-66EF-43DA-8AAD-9FD4EC176F0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7213C-BDFE-4533-9FCF-771D9363DB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CE8C4-F437-41C8-A587-3B87EE59D1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2BF24-A92D-4B23-BE5D-0553ACB21AF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7A656-D3EB-4875-92CA-400EA0A6A31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B7C0B-26C4-40F8-BC40-E98265EAB2F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C4B3A-B60A-4626-94B4-0AB9D6C9C26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10B17-1501-4CD4-8A6A-CDD33105364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026A7-AD38-4F48-BA5B-A0CE7B99137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452680" y="3191040"/>
            <a:ext cx="4238640" cy="47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123840" y="531720"/>
            <a:ext cx="8896320" cy="621036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2268360" y="4365720"/>
            <a:ext cx="360720" cy="2570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3851280" y="4365720"/>
            <a:ext cx="360360" cy="2570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5076720" y="4365720"/>
            <a:ext cx="360360" cy="2570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6516720" y="4365720"/>
            <a:ext cx="360360" cy="2570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8101080" y="4365720"/>
            <a:ext cx="360360" cy="25704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755640" y="5157720"/>
            <a:ext cx="4464000" cy="25740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755640" y="5506920"/>
            <a:ext cx="4464000" cy="25740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9"/>
          <a:stretch/>
        </p:blipFill>
        <p:spPr>
          <a:xfrm>
            <a:off x="755640" y="6165720"/>
            <a:ext cx="6121440" cy="25740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10"/>
          <a:stretch/>
        </p:blipFill>
        <p:spPr>
          <a:xfrm>
            <a:off x="755640" y="6481800"/>
            <a:ext cx="612144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2" name="图片 59410" descr=""/>
          <p:cNvPicPr/>
          <p:nvPr/>
        </p:nvPicPr>
        <p:blipFill>
          <a:blip r:embed="rId1"/>
          <a:stretch/>
        </p:blipFill>
        <p:spPr>
          <a:xfrm>
            <a:off x="123840" y="2023920"/>
            <a:ext cx="8896320" cy="2810160"/>
          </a:xfrm>
          <a:prstGeom prst="rect">
            <a:avLst/>
          </a:prstGeom>
          <a:ln w="0">
            <a:noFill/>
          </a:ln>
        </p:spPr>
      </p:pic>
      <p:pic>
        <p:nvPicPr>
          <p:cNvPr id="933" name="图片 59411" descr=""/>
          <p:cNvPicPr/>
          <p:nvPr/>
        </p:nvPicPr>
        <p:blipFill>
          <a:blip r:embed="rId2"/>
          <a:stretch/>
        </p:blipFill>
        <p:spPr>
          <a:xfrm>
            <a:off x="1360440" y="2637000"/>
            <a:ext cx="666756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4" name="图片 58373" descr=""/>
          <p:cNvPicPr/>
          <p:nvPr/>
        </p:nvPicPr>
        <p:blipFill>
          <a:blip r:embed="rId1"/>
          <a:stretch/>
        </p:blipFill>
        <p:spPr>
          <a:xfrm>
            <a:off x="623880" y="1933560"/>
            <a:ext cx="7896240" cy="299088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2"/>
          <a:stretch/>
        </p:blipFill>
        <p:spPr>
          <a:xfrm>
            <a:off x="2411280" y="4552920"/>
            <a:ext cx="648000" cy="25704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3"/>
          <a:stretch/>
        </p:blipFill>
        <p:spPr>
          <a:xfrm>
            <a:off x="4500720" y="4572000"/>
            <a:ext cx="647640" cy="25704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4"/>
          <a:stretch/>
        </p:blipFill>
        <p:spPr>
          <a:xfrm>
            <a:off x="6597720" y="4572000"/>
            <a:ext cx="64764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7T02:18:41Z</dcterms:modified>
  <cp:revision>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